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0AE-D1F3-4838-8268-B144CF92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72B-CB88-4E3C-B2B3-EA930560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654-2A24-4464-8D97-51E5CA57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071-14CF-4FD1-85B6-D9F3E4B5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5DE2-374C-400C-A001-EA9D0E88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3436-0259-4781-8AF6-008DD68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DE21-C306-4485-B030-E91A699D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EAD5-C4F4-4D64-8800-7B27DF5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F747-262E-4271-8262-A0C6E09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8F0E-99B3-4544-B9D3-68D8E472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AE9A-8291-475F-8F1B-697CC06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91D-46D5-490E-8FFC-24D09702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668D-215C-4916-BC06-EF05CD44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759B-D007-437F-9386-E8356D9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86D9-3D72-4616-8A0B-0F06251A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5AB0-D822-4DC8-9B29-69AED7BD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5C04-E2D4-4000-AB9B-2E2E13A8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603-9DE3-4DB7-8DBC-C1BAFCA5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0EB-FF16-44D2-92D1-3E8E8215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73C-9AE2-4232-A144-8EAF42C2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B0A-8940-4475-9753-01968AB5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4E4-1CB7-4129-B056-B0F3F35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A4C-7DE1-4724-8D0F-F4329A1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4FC-A033-434E-A69F-7343790C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D15-45A8-4E5B-BA5A-246497999B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4AFC-BF35-4CF4-9818-ABE0E7E0A8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OW TO SEARC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ONFICTION BOOK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js libr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626640" y="400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na Duk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2B00-0760-48FE-9A0A-D850CDE076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11320" cy="235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1575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3116160" cy="403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11960" y="5300640"/>
            <a:ext cx="51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  Who enjoys a good gro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5   When does a tiger cub leave ho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 we use a contents pag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3000"/>
            <a:ext cx="27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ble of contents is a list of book chapters in the order they appear in a book with corresponding page numbers. It helps the reader find information about main topics in the book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C62-A876-4693-AA1B-82E9A7E52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61620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81640" y="33717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ger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boon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789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es an index wor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are the index and contents page diffe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6200" y="90792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x is a list of key words, arranged alphabeticall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ED0-A579-45AE-AE93-22A9F0F3D5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278160" cy="43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47840" cy="432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133720" cy="28130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EA5-8502-4B15-807B-EA9D9967A2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x - 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31880" cy="4690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5400" cy="475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9080" y="60357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bernation -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83664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ssary explains difficult or unusual words used in the tex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18E-DE46-47C7-B766-138BC1E06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605040" cy="48704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24000" y="5734080"/>
            <a:ext cx="360360" cy="393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3840"/>
              <a:gd name="textAreaBottom" fmla="*/ 370800 h 39384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11802"/>
                </a:moveTo>
                <a:lnTo>
                  <a:pt x="17806" y="4796"/>
                </a:lnTo>
                <a:lnTo>
                  <a:pt x="17806" y="188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600" y="57484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ck 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51F-27E4-4DCE-8C79-888BA4EDA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70200" cy="475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735360" cy="48243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2509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560" y="595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Table of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47240" y="63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10B-C0F8-4B99-B19D-80E13D7AAC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12:10Z</dcterms:created>
  <dc:creator> Dana</dc:creator>
  <dc:description/>
  <dc:language>en-US</dc:language>
  <cp:lastModifiedBy>Owner</cp:lastModifiedBy>
  <dcterms:modified xsi:type="dcterms:W3CDTF">2009-03-14T03:37:35Z</dcterms:modified>
  <cp:revision>27</cp:revision>
  <dc:subject/>
  <dc:title>Slide 1</dc:title>
</cp:coreProperties>
</file>